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E82-1755-450C-A094-3893FC50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EEF-824F-4BD9-BDDF-9473011F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57A-D3E7-49E1-84D4-E505684C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520-666B-4DBC-8F24-D534D0F5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935-C8B7-4CAB-A862-DC33588E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8CD-8062-48DE-8E1B-5786A059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789-4389-48C8-8BF1-B7640B51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297-C612-4CBF-B268-6C673A8F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D85-0A7A-4100-81F5-C066EB0A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8C9-3082-4B97-B54E-3C8A0230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F58-E5BD-4EBC-82D4-184E1D09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F5C-95B1-4EDE-83F8-DF002C4F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Click to edit the title text format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Broadwa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Broadwa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Broadwa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1423-2C44-4320-96EE-245B1EA33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usic_history" TargetMode="External"/><Relationship Id="rId2" Type="http://schemas.openxmlformats.org/officeDocument/2006/relationships/hyperlink" Target="http://www.music.us/biography/" TargetMode="External"/><Relationship Id="rId3" Type="http://schemas.openxmlformats.org/officeDocument/2006/relationships/hyperlink" Target="http://www.sing365.com/music/lyric.nsf/The-Music-Biography/A4E290E370CE6F4348256F24002B8867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What’s Your Rhythm?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019920" cy="4280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0" y="6019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By: Baylee Mask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Major Observations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6668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People with music were being silly. They were focusing on the music and not dra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Possible Causes of Error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895480"/>
            <a:ext cx="678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-There was music playing while testing when their wasn’t suppose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-People were acting si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-They were t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-They would hear the song and start singing or d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-They tried to rush throug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Further Research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27432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You could see if music helps little kids vs. older k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Time Spent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28195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All science fair work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Acknowledgements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2438280"/>
            <a:ext cx="6172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I want to thanks Mrs. Riffel for providing all the time I had, Mrs. Calderwood for rating everyone’s picture, and all students that took the test.  </a:t>
            </a:r>
            <a:r>
              <a:rPr b="0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Works Cited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20968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sic Histo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n.d.). Retrieved January 4, 2012, from Wikipedia websi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Music_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Music Artists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s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Web. 4 Jan. 2012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usic.us/biograph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The Music Biography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Web. 3 J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ing365.com/music/lyric.nsf/The-Music-	Biography/A4E290E370CE6F4348256F24002B886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Problem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828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What effect does music have on your artistic skil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33530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Introduction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80060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This is further research on my project las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4290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Background Info.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9051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ffff"/>
                </a:solidFill>
                <a:latin typeface="Broadway"/>
              </a:rPr>
              <a:t>Music</a:t>
            </a:r>
            <a:r>
              <a:rPr b="0" lang="en" sz="2000" spc="-1" strike="noStrike">
                <a:solidFill>
                  <a:srgbClr val="ffffff"/>
                </a:solidFill>
                <a:latin typeface="Broadway"/>
              </a:rPr>
              <a:t> is an art form whose medium is sound and silence. Its common elements are pitch, rhythm, dynamics, and the sonic qualities of timbre and tex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Hypothesis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2860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My hypothesis is that they will get it done faster with music than with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Materials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228600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9 people to be with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9 people to be without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worksheet I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stopw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Procedure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2286000"/>
            <a:ext cx="670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1. Take 10 kids (5 partnershi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2. Explain th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3. Play music while they do the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4. When done timing write the score on the top of th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5. Repeat 1-4, without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Variables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7432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Independent –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pendent – Artistic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Controlled – 9 people take the test with music; 9 people take wit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oadway"/>
              </a:rPr>
              <a:t>Conclusion</a:t>
            </a:r>
            <a:endParaRPr b="0" lang="en-US" sz="4400" spc="-1" strike="noStrike" u="sng">
              <a:solidFill>
                <a:srgbClr val="ffffff"/>
              </a:solidFill>
              <a:uFillTx/>
              <a:latin typeface="Broadway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438280"/>
            <a:ext cx="670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In conclusion, my results show that people without music did better but they also took longer. My hypothesis is wr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4:50:43Z</dcterms:created>
  <dc:creator>USD376</dc:creator>
  <dc:description/>
  <dc:language>en-US</dc:language>
  <cp:lastModifiedBy>USD376</cp:lastModifiedBy>
  <dcterms:modified xsi:type="dcterms:W3CDTF">2012-03-08T15:04:58Z</dcterms:modified>
  <cp:revision>2</cp:revision>
  <dc:subject/>
  <dc:title>What’s Your Rhythm?</dc:title>
</cp:coreProperties>
</file>